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AD7D5-D9E4-4354-B452-0EB60A53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817B8-CE03-4978-9BCA-DE5EA131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2464F-D42A-4B79-9A83-9A18691B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C58AD-0E12-4B6F-AFE8-F6322B97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99DA8-8BB0-4380-AF13-D27E9F44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D38E0-E93B-4E66-BC91-D557AE97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034DC-63C6-4E28-B12F-FA75AD92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54409-EC81-4E03-A558-3A2CED33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4DF23-BADB-43DC-9D6B-4F6A1D95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923-9EB0-4BE3-BA4B-820CC161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57F-9A92-4380-910D-64606066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DB9-5CFE-4D10-9748-ACA98F85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0EF-40A8-4503-B934-7133A083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289-511C-41FD-8959-01192101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331-5191-457C-B6CE-1AAE3BEF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07A-3B03-4E21-9B10-1535BB6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CB1-83D3-42EF-B764-30E15B9B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867-8EE5-4836-BB0A-5DCA5B44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D35-E603-4376-BC3B-1441705A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D60-66BE-44F7-867F-C63A345C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BCF-7899-43D6-9294-CFE11FC6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F608-B840-4185-9777-396C0719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FEE5-6DE8-451B-A975-4849A0FD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5C80-BE08-4D8B-92B3-54D3182A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A489-A743-4CC5-990C-D8A1BE41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40B1-5538-45A8-BF41-89603CBF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8772-7D56-4996-A579-498424F1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BA4C-C6DB-455B-9E8F-4FD87E03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3DF8-F5E4-4718-AB72-EB012E0A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5B7F-79A0-4369-B0B8-A9918495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9D48-7FF0-434E-99BC-B5778C2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7883-399B-4C2D-A948-1B21BE6D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1297-334E-4472-A2B8-FD41FB2A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5B2D-6592-4942-8464-A2B83BE7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6248-2621-4742-A0D1-354FE63D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1992B-29F6-4490-96B6-5ACC4087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207BF-068C-46C1-A7A7-AEE474E8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6A3E-BDEE-420A-BBA6-19CF8318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5A70-9AE0-433E-8351-C145AEE4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AA52-3283-4BDA-A4FF-D76DD15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E47B-1BA4-496A-85F5-CC6F07A7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EBD2-7D70-460D-B5AF-347DDDAA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E9A3D-4BD4-4963-A255-4EDD5F08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2079-6F14-45DC-88AE-A965CB9D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F6228-2318-4661-BA28-D4E8F192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8F39-51EF-47EC-8282-B6E4D094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4746-4B4E-4FF5-ABEE-692AB5AF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E2474-9C5A-411F-BC4F-0D77B4CE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11E3D-BC70-416A-A8CE-5E840C5D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0E4C3-6469-46D4-BFA9-A2FC88D9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A9037-3BB6-4CA1-B754-0189058F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A40C3-8499-4FCE-956B-35DF6FA4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E7CE-EDB2-4A40-AA16-FC43A044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1AE02-330E-4F8F-9721-3270BC29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63F8D-49C8-4CC0-B0D9-25B274C2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E5A7-446B-498D-A5CD-4726FBA8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C9EFE-4A4B-49DF-9C7B-CBB7ED0A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FED90-438D-4308-9162-22BB35E6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80AF0-CFAA-492C-8DE5-48FE7B54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1BDA0-3436-433A-BED8-472589B2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028B-42CF-4E4A-9C3A-01281BAE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793E8-B197-4E4D-8960-68B98511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C06B7-AD66-4EC3-BDC2-FB3FCD8E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728D6-935A-41BB-A7B2-2A2FE27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EBA05-A21C-4D1E-BDB3-506A2DBE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E6DEE-8EA8-41CB-973A-8FF8BD52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F8FF-58F5-4673-AAF3-9C8D5512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AEB34-119A-477C-9FB7-23C8F2DF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9C256-C7BC-46E3-9CAA-2CE5E47D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F54D1-29CC-4F5F-B126-463015B8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5F100-55CD-42A9-8174-E1790C89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68208-1A71-4B97-86D4-D0FEC465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EF15C-279C-4678-8C07-BFC21B39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DD9CB-AD57-40C4-85D2-75800554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A761F-7475-4B0E-93D4-153D44ED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9904B-9D3B-42C5-808C-8241DBEC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FA90A-E5D8-419F-9DD1-1ED34BC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3C8B3-3720-47BC-9ABD-CEB7D160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D9AF4-BF17-42CA-82A2-7B7F299E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92B8C-88A9-4617-8510-67812587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7E738-9897-4180-A429-4CA987FB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94207-EB1E-4AE6-BD44-47D9D94E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D577F-7E80-4FC6-A3B3-1D3ED6FE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2393A-98E6-4A8E-A39E-6F3433C3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55404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1936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1602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2056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52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52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2" name="同心圆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文本框 2053"/>
            <p:cNvSpPr/>
            <p:nvPr/>
          </p:nvSpPr>
          <p:spPr>
            <a:xfrm rot="2315400">
              <a:off x="347040" y="1215720"/>
              <a:ext cx="7956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F7DC-643E-4BE3-BF80-3AB78B330989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E10A-36C3-4045-858B-5D112EFC16C3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2-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55404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1936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1602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2056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52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52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0" name="同心圆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文本框 4101"/>
            <p:cNvSpPr/>
            <p:nvPr/>
          </p:nvSpPr>
          <p:spPr>
            <a:xfrm rot="2315400">
              <a:off x="347040" y="1215720"/>
              <a:ext cx="7956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2-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6" name="椭圆 12" descr=""/>
            <p:cNvPicPr/>
            <p:nvPr/>
          </p:nvPicPr>
          <p:blipFill>
            <a:blip r:embed="rId5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4107"/>
            <p:cNvSpPr/>
            <p:nvPr/>
          </p:nvSpPr>
          <p:spPr>
            <a:xfrm>
              <a:off x="95220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8C6A-B877-4B4C-8695-9D41C20184DB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268A-E0BB-4E1B-B107-BC013D23C750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3" name="椭圆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文本框 512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2ADF-8B7C-4BB8-9C5E-890FC4E52FD4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0528-48FA-460A-A36F-D0BAD9B8CE46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E748-0A17-4634-A4C2-926182ADE62D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41C3-49E3-466A-A1F5-E1A9F329E789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925B-F07A-46C7-80BA-C6B47A72928E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052F-13D6-4657-8A25-ED7AE3D89013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E854-BC30-44BA-8016-FC2C244BBA2A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A8FE-0576-4E02-82A1-AB1CB6A16ED5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652320" y="974880"/>
            <a:ext cx="4797360" cy="4797360"/>
            <a:chOff x="652320" y="974880"/>
            <a:chExt cx="4797360" cy="4797360"/>
          </a:xfrm>
        </p:grpSpPr>
        <p:pic>
          <p:nvPicPr>
            <p:cNvPr id="353" name="矩形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36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文本框 9219"/>
            <p:cNvSpPr/>
            <p:nvPr/>
          </p:nvSpPr>
          <p:spPr>
            <a:xfrm>
              <a:off x="761760" y="106704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3200" indent="5112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657360" indent="25704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923760" indent="-93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114560" indent="-20016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114560" indent="-20016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C7D0-E2A5-4995-8D29-8E2368157336}" type="datetime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BA9C-B552-4273-8F9C-6333A6DD55B6}" type="slidenum">
              <a:rPr b="0" lang="zh-CN" sz="1200" spc="-1" strike="noStrike">
                <a:solidFill>
                  <a:srgbClr val="b5a788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9,3,&#24187;&#28783;&#29255; 3" TargetMode="External"/><Relationship Id="rId3" Type="http://schemas.openxmlformats.org/officeDocument/2006/relationships/hyperlink" Target="380,13,&#31995;&#32479;&#31649;&#29702;&#21592;&#30340;&#25805;&#20316;" TargetMode="External"/><Relationship Id="rId4" Type="http://schemas.openxmlformats.org/officeDocument/2006/relationships/hyperlink" Target="396,31,&#24187;&#28783;&#29255; 31" TargetMode="External"/><Relationship Id="rId5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hyperlink" Target="http://10.168.201.59/smis" TargetMode="External"/><Relationship Id="rId5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矩形 4" descr=""/>
          <p:cNvPicPr/>
          <p:nvPr/>
        </p:nvPicPr>
        <p:blipFill>
          <a:blip r:embed="rId2"/>
          <a:stretch/>
        </p:blipFill>
        <p:spPr>
          <a:xfrm>
            <a:off x="971640" y="1414440"/>
            <a:ext cx="8208720" cy="2664000"/>
          </a:xfrm>
          <a:prstGeom prst="rect">
            <a:avLst/>
          </a:prstGeom>
          <a:ln w="0">
            <a:noFill/>
          </a:ln>
        </p:spPr>
      </p:pic>
      <p:pic>
        <p:nvPicPr>
          <p:cNvPr id="399" name="任意多边形 5" descr=""/>
          <p:cNvPicPr/>
          <p:nvPr/>
        </p:nvPicPr>
        <p:blipFill>
          <a:blip r:embed="rId3"/>
          <a:stretch/>
        </p:blipFill>
        <p:spPr>
          <a:xfrm>
            <a:off x="-90360" y="4011480"/>
            <a:ext cx="9300960" cy="2243160"/>
          </a:xfrm>
          <a:prstGeom prst="rect">
            <a:avLst/>
          </a:prstGeom>
          <a:ln w="0">
            <a:noFill/>
          </a:ln>
        </p:spPr>
      </p:pic>
      <p:sp>
        <p:nvSpPr>
          <p:cNvPr id="400" name="TextBox 7"/>
          <p:cNvSpPr/>
          <p:nvPr/>
        </p:nvSpPr>
        <p:spPr>
          <a:xfrm>
            <a:off x="971640" y="1994040"/>
            <a:ext cx="8066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贵州省人力资源社会保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数据集中管理与应用系统操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2881440" y="5359320"/>
            <a:ext cx="1839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0"/>
          <p:cNvSpPr/>
          <p:nvPr/>
        </p:nvSpPr>
        <p:spPr>
          <a:xfrm>
            <a:off x="3027960" y="5837400"/>
            <a:ext cx="211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     </a:t>
            </a: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2</a:t>
            </a: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11270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20482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图片 1" descr="N6Y]A([569]QMS(V7D_KDT6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012680" y="3240"/>
            <a:ext cx="8097840" cy="413532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2" descr=")X}364D}O{JRH6OCF25IXOA"/>
          <p:cNvPicPr/>
          <p:nvPr/>
        </p:nvPicPr>
        <p:blipFill>
          <a:blip r:embed="rId3"/>
          <a:stretch/>
        </p:blipFill>
        <p:spPr>
          <a:xfrm>
            <a:off x="1012680" y="3666960"/>
            <a:ext cx="809964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图片 1" descr="360截图20201201101513020"/>
          <p:cNvPicPr/>
          <p:nvPr/>
        </p:nvPicPr>
        <p:blipFill>
          <a:blip r:embed="rId2"/>
          <a:stretch/>
        </p:blipFill>
        <p:spPr>
          <a:xfrm>
            <a:off x="992160" y="9360"/>
            <a:ext cx="8532720" cy="683928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20482"/>
          <p:cNvSpPr/>
          <p:nvPr/>
        </p:nvSpPr>
        <p:spPr>
          <a:xfrm>
            <a:off x="8388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图片 2" descr="$I[(FYS9`4YP7D%_EJ7A3TE"/>
          <p:cNvPicPr/>
          <p:nvPr/>
        </p:nvPicPr>
        <p:blipFill>
          <a:blip r:embed="rId2"/>
          <a:stretch/>
        </p:blipFill>
        <p:spPr>
          <a:xfrm>
            <a:off x="1019160" y="3240"/>
            <a:ext cx="8202600" cy="685152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0482"/>
          <p:cNvSpPr/>
          <p:nvPr/>
        </p:nvSpPr>
        <p:spPr>
          <a:xfrm>
            <a:off x="8388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0482"/>
          <p:cNvSpPr/>
          <p:nvPr/>
        </p:nvSpPr>
        <p:spPr>
          <a:xfrm>
            <a:off x="8388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图片 4" descr="H{11$0OS$[Y18SBAN%A@19U"/>
          <p:cNvPicPr/>
          <p:nvPr/>
        </p:nvPicPr>
        <p:blipFill>
          <a:blip r:embed="rId2"/>
          <a:stretch/>
        </p:blipFill>
        <p:spPr>
          <a:xfrm>
            <a:off x="1014480" y="-12600"/>
            <a:ext cx="8105760" cy="6875280"/>
          </a:xfrm>
          <a:prstGeom prst="rect">
            <a:avLst/>
          </a:prstGeom>
          <a:ln w="0">
            <a:noFill/>
          </a:ln>
        </p:spPr>
      </p:pic>
      <p:sp>
        <p:nvSpPr>
          <p:cNvPr id="435" name="文本框 3"/>
          <p:cNvSpPr/>
          <p:nvPr/>
        </p:nvSpPr>
        <p:spPr>
          <a:xfrm>
            <a:off x="5484960" y="230040"/>
            <a:ext cx="351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重新在浏览器地址栏输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//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/222.197.207.138:8090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/smis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（外网）或者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://10.168.201.59/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mis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（内网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文本框 22531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图片 1" descr="])GW0$M`SP`9[(`O2}AXZAU"/>
          <p:cNvPicPr/>
          <p:nvPr/>
        </p:nvPicPr>
        <p:blipFill>
          <a:blip r:embed="rId2"/>
          <a:stretch/>
        </p:blipFill>
        <p:spPr>
          <a:xfrm>
            <a:off x="987480" y="11160"/>
            <a:ext cx="8458200" cy="68342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1434960" y="1319040"/>
            <a:ext cx="48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输入用户名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密码，初始密码是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Wyg1m2m#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，点击登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%L70HKY@GQK83[I2CJ}($$8"/>
          <p:cNvPicPr/>
          <p:nvPr/>
        </p:nvPicPr>
        <p:blipFill>
          <a:blip r:embed="rId2"/>
          <a:stretch/>
        </p:blipFill>
        <p:spPr>
          <a:xfrm>
            <a:off x="1023840" y="-1440"/>
            <a:ext cx="8212320" cy="686268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26627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1" descr="YV3GUSFY}J24[R$TKC%VNJ1"/>
          <p:cNvPicPr/>
          <p:nvPr/>
        </p:nvPicPr>
        <p:blipFill>
          <a:blip r:embed="rId2"/>
          <a:stretch/>
        </p:blipFill>
        <p:spPr>
          <a:xfrm>
            <a:off x="998640" y="34920"/>
            <a:ext cx="8196120" cy="68310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3"/>
          <p:cNvSpPr/>
          <p:nvPr/>
        </p:nvSpPr>
        <p:spPr>
          <a:xfrm>
            <a:off x="2820960" y="45766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修改密码，密码是字母加数字，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，须包含一个大写字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6627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图片 2" descr=""/>
          <p:cNvPicPr/>
          <p:nvPr/>
        </p:nvPicPr>
        <p:blipFill>
          <a:blip r:embed="rId2"/>
          <a:stretch/>
        </p:blipFill>
        <p:spPr>
          <a:xfrm>
            <a:off x="965160" y="-11160"/>
            <a:ext cx="8282160" cy="686268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657520" y="24177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要特别注意当前工作年度这一细节，否则会带来一系列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5603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图片 1" descr="6E~T52H@V9R3~4Q7}X8NND1"/>
          <p:cNvPicPr/>
          <p:nvPr/>
        </p:nvPicPr>
        <p:blipFill>
          <a:blip r:embed="rId2"/>
          <a:stretch/>
        </p:blipFill>
        <p:spPr>
          <a:xfrm>
            <a:off x="1004760" y="-20520"/>
            <a:ext cx="8167680" cy="6889680"/>
          </a:xfrm>
          <a:prstGeom prst="rect">
            <a:avLst/>
          </a:prstGeom>
          <a:ln w="0">
            <a:noFill/>
          </a:ln>
        </p:spPr>
      </p:pic>
      <p:sp>
        <p:nvSpPr>
          <p:cNvPr id="448" name="文本框 26627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线形标注 1 2"/>
          <p:cNvSpPr/>
          <p:nvPr/>
        </p:nvSpPr>
        <p:spPr>
          <a:xfrm>
            <a:off x="3236760" y="622440"/>
            <a:ext cx="917640" cy="361800"/>
          </a:xfrm>
          <a:prstGeom prst="borderCallout1">
            <a:avLst>
              <a:gd name="adj1" fmla="val 18750"/>
              <a:gd name="adj2" fmla="val -8333"/>
              <a:gd name="adj3" fmla="val 112500"/>
              <a:gd name="adj4" fmla="val -3833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系统管理员的操作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文本框 27650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内容占位符 27651" descr=""/>
          <p:cNvPicPr/>
          <p:nvPr/>
        </p:nvPicPr>
        <p:blipFill>
          <a:blip r:embed="rId2"/>
          <a:stretch/>
        </p:blipFill>
        <p:spPr>
          <a:xfrm>
            <a:off x="1046160" y="0"/>
            <a:ext cx="8062920" cy="681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第一部分  共同操作使用程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第二部分  汇总单位操作程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第三部分  填报单位操作程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文本框 12291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20600" y="-90360"/>
            <a:ext cx="74995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文本框 28674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内容占位符 2" descr="2F5Z6X{TQSA8JTNKW4%P{SY"/>
          <p:cNvPicPr/>
          <p:nvPr/>
        </p:nvPicPr>
        <p:blipFill>
          <a:blip r:embed="rId2"/>
          <a:stretch/>
        </p:blipFill>
        <p:spPr>
          <a:xfrm>
            <a:off x="1020600" y="757080"/>
            <a:ext cx="814896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4360" y="-20880"/>
            <a:ext cx="7499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新增单位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57" name="内容占位符 29699" descr="QQ图片20070301032727"/>
          <p:cNvPicPr/>
          <p:nvPr/>
        </p:nvPicPr>
        <p:blipFill>
          <a:blip r:embed="rId2"/>
          <a:stretch/>
        </p:blipFill>
        <p:spPr>
          <a:xfrm>
            <a:off x="1044720" y="3789360"/>
            <a:ext cx="8100720" cy="3027240"/>
          </a:xfrm>
          <a:prstGeom prst="rect">
            <a:avLst/>
          </a:prstGeom>
          <a:ln w="0">
            <a:noFill/>
          </a:ln>
        </p:spPr>
      </p:pic>
      <p:sp>
        <p:nvSpPr>
          <p:cNvPr id="458" name="文本框 29700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434600" y="1447560"/>
            <a:ext cx="367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0" name="图片 2" descr="]AD`N]Z9J_P0}BKTE_56091"/>
          <p:cNvPicPr/>
          <p:nvPr/>
        </p:nvPicPr>
        <p:blipFill>
          <a:blip r:embed="rId3"/>
          <a:stretch/>
        </p:blipFill>
        <p:spPr>
          <a:xfrm>
            <a:off x="1042920" y="515880"/>
            <a:ext cx="810252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87120" y="-208440"/>
            <a:ext cx="749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修改单位信息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文本框 30723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内容占位符 5" descr=""/>
          <p:cNvPicPr/>
          <p:nvPr/>
        </p:nvPicPr>
        <p:blipFill>
          <a:blip r:embed="rId2"/>
          <a:stretch/>
        </p:blipFill>
        <p:spPr>
          <a:xfrm>
            <a:off x="987480" y="620640"/>
            <a:ext cx="8188200" cy="3919680"/>
          </a:xfrm>
          <a:prstGeom prst="rect">
            <a:avLst/>
          </a:prstGeom>
          <a:ln w="0">
            <a:noFill/>
          </a:ln>
        </p:spPr>
      </p:pic>
      <p:pic>
        <p:nvPicPr>
          <p:cNvPr id="464" name="内容占位符 6" descr="U02L)E6UWAZLW]7Y{XMD}~O"/>
          <p:cNvPicPr/>
          <p:nvPr/>
        </p:nvPicPr>
        <p:blipFill>
          <a:blip r:embed="rId3"/>
          <a:stretch/>
        </p:blipFill>
        <p:spPr>
          <a:xfrm>
            <a:off x="987480" y="4376880"/>
            <a:ext cx="8103960" cy="24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1120" y="-63720"/>
            <a:ext cx="7499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分配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文本框 31746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内容占位符 2" descr="7Z8%`K86DR9CG_J94BU7QA8"/>
          <p:cNvPicPr/>
          <p:nvPr/>
        </p:nvPicPr>
        <p:blipFill>
          <a:blip r:embed="rId2"/>
          <a:stretch/>
        </p:blipFill>
        <p:spPr>
          <a:xfrm>
            <a:off x="1041480" y="628560"/>
            <a:ext cx="8116920" cy="6253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3"/>
          <p:cNvSpPr/>
          <p:nvPr/>
        </p:nvSpPr>
        <p:spPr>
          <a:xfrm>
            <a:off x="2781360" y="2448000"/>
            <a:ext cx="24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不要随意勾选这两个选项，只能把对的报表分给对的单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12680" y="820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报表分配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0" name="内容占位符 3" descr="3%JZ7S@1@)Q[I(SWP14_G_G"/>
          <p:cNvPicPr/>
          <p:nvPr/>
        </p:nvPicPr>
        <p:blipFill>
          <a:blip r:embed="rId2"/>
          <a:stretch/>
        </p:blipFill>
        <p:spPr>
          <a:xfrm>
            <a:off x="1014480" y="615960"/>
            <a:ext cx="8164440" cy="6273720"/>
          </a:xfrm>
          <a:prstGeom prst="rect">
            <a:avLst/>
          </a:prstGeom>
          <a:ln w="0">
            <a:noFill/>
          </a:ln>
        </p:spPr>
      </p:pic>
      <p:sp>
        <p:nvSpPr>
          <p:cNvPr id="471" name="文本框 31746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34920" y="-201960"/>
            <a:ext cx="74995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分配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文本框 32770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内容占位符 2" descr="%8DV44{4@EGTZ0YN_8XCY8H"/>
          <p:cNvPicPr/>
          <p:nvPr/>
        </p:nvPicPr>
        <p:blipFill>
          <a:blip r:embed="rId2"/>
          <a:stretch/>
        </p:blipFill>
        <p:spPr>
          <a:xfrm>
            <a:off x="998640" y="619200"/>
            <a:ext cx="812772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84240" y="-170280"/>
            <a:ext cx="74995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分配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文本框 33794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内容占位符 1" descr="D{N6%Z_S@28W[VKPTM0K{CB"/>
          <p:cNvPicPr/>
          <p:nvPr/>
        </p:nvPicPr>
        <p:blipFill>
          <a:blip r:embed="rId2"/>
          <a:stretch/>
        </p:blipFill>
        <p:spPr>
          <a:xfrm>
            <a:off x="982800" y="619200"/>
            <a:ext cx="820728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31760" y="-235440"/>
            <a:ext cx="74995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单位管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分配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文本框 34818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0" name="内容占位符 8" descr="[_R]Q)9Z51W~B`S@9J3L4CN"/>
          <p:cNvPicPr/>
          <p:nvPr/>
        </p:nvPicPr>
        <p:blipFill>
          <a:blip r:embed="rId2"/>
          <a:stretch/>
        </p:blipFill>
        <p:spPr>
          <a:xfrm>
            <a:off x="944640" y="549360"/>
            <a:ext cx="8202600" cy="63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02960" y="-190440"/>
            <a:ext cx="74991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处理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文本框 35842"/>
          <p:cNvSpPr/>
          <p:nvPr/>
        </p:nvSpPr>
        <p:spPr>
          <a:xfrm>
            <a:off x="52200" y="54936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内容占位符 2" descr="6R`)EK[5[M[V[SQ(_%50I_H"/>
          <p:cNvPicPr/>
          <p:nvPr/>
        </p:nvPicPr>
        <p:blipFill>
          <a:blip r:embed="rId2"/>
          <a:stretch/>
        </p:blipFill>
        <p:spPr>
          <a:xfrm>
            <a:off x="1003320" y="641520"/>
            <a:ext cx="8121600" cy="61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55440" y="-213120"/>
            <a:ext cx="749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报表处理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上报情况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文本框 36866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内容占位符 3" descr="WRXRVA6PI[9N96DGW`E@H{7"/>
          <p:cNvPicPr/>
          <p:nvPr/>
        </p:nvPicPr>
        <p:blipFill>
          <a:blip r:embed="rId2"/>
          <a:stretch/>
        </p:blipFill>
        <p:spPr>
          <a:xfrm>
            <a:off x="1031760" y="608040"/>
            <a:ext cx="8115480" cy="62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任意多边形 6" descr=""/>
          <p:cNvPicPr/>
          <p:nvPr/>
        </p:nvPicPr>
        <p:blipFill>
          <a:blip r:embed="rId2"/>
          <a:stretch/>
        </p:blipFill>
        <p:spPr>
          <a:xfrm>
            <a:off x="-98280" y="4437000"/>
            <a:ext cx="9013680" cy="2522520"/>
          </a:xfrm>
          <a:prstGeom prst="rect">
            <a:avLst/>
          </a:prstGeom>
          <a:ln w="0">
            <a:noFill/>
          </a:ln>
        </p:spPr>
      </p:pic>
      <p:pic>
        <p:nvPicPr>
          <p:cNvPr id="407" name="任意多边形 5" descr=""/>
          <p:cNvPicPr/>
          <p:nvPr/>
        </p:nvPicPr>
        <p:blipFill>
          <a:blip r:embed="rId3"/>
          <a:stretch/>
        </p:blipFill>
        <p:spPr>
          <a:xfrm>
            <a:off x="-90360" y="4011480"/>
            <a:ext cx="9300960" cy="2243160"/>
          </a:xfrm>
          <a:prstGeom prst="rect">
            <a:avLst/>
          </a:prstGeom>
          <a:ln w="0">
            <a:noFill/>
          </a:ln>
        </p:spPr>
      </p:pic>
      <p:sp>
        <p:nvSpPr>
          <p:cNvPr id="408" name="文本框 13315"/>
          <p:cNvSpPr/>
          <p:nvPr/>
        </p:nvSpPr>
        <p:spPr>
          <a:xfrm>
            <a:off x="1044720" y="1270080"/>
            <a:ext cx="8099280" cy="40939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浏览器地址栏输入：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//220.197.207.138:8090/smis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（外网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dc765"/>
                </a:solidFill>
                <a:uFillTx/>
                <a:latin typeface="Calibri"/>
                <a:hlinkClick r:id="rId4"/>
              </a:rPr>
              <a:t>http://10.168.201.59/smis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（内网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13316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8280" y="-244440"/>
            <a:ext cx="7499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催报管理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文本框 37890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内容占位符 2" descr="VD5{2~_FBD2GTUI]`ZGKT]I"/>
          <p:cNvPicPr/>
          <p:nvPr/>
        </p:nvPicPr>
        <p:blipFill>
          <a:blip r:embed="rId2"/>
          <a:stretch/>
        </p:blipFill>
        <p:spPr>
          <a:xfrm>
            <a:off x="998640" y="596880"/>
            <a:ext cx="809928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4360" y="1440"/>
            <a:ext cx="749916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催报管理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文本框 38914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内容占位符 38915" descr="QQ图片20070301073319"/>
          <p:cNvPicPr/>
          <p:nvPr/>
        </p:nvPicPr>
        <p:blipFill>
          <a:blip r:embed="rId2"/>
          <a:stretch/>
        </p:blipFill>
        <p:spPr>
          <a:xfrm>
            <a:off x="1044720" y="549360"/>
            <a:ext cx="8100720" cy="63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44360" y="1080"/>
            <a:ext cx="749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退回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文本框 39938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044720" y="477720"/>
            <a:ext cx="8115120" cy="63658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3"/>
          <p:cNvSpPr/>
          <p:nvPr/>
        </p:nvSpPr>
        <p:spPr>
          <a:xfrm>
            <a:off x="4545000" y="2146320"/>
            <a:ext cx="243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只能退回下一级的报表，不能越级退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44360" y="-360"/>
            <a:ext cx="74991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退回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文本框 40962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内容占位符 40963" descr="QQ图片20070301073319"/>
          <p:cNvPicPr/>
          <p:nvPr/>
        </p:nvPicPr>
        <p:blipFill>
          <a:blip r:embed="rId2"/>
          <a:stretch/>
        </p:blipFill>
        <p:spPr>
          <a:xfrm>
            <a:off x="1044720" y="765000"/>
            <a:ext cx="8065800" cy="60915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3"/>
          <p:cNvSpPr/>
          <p:nvPr/>
        </p:nvSpPr>
        <p:spPr>
          <a:xfrm>
            <a:off x="2395440" y="3135240"/>
            <a:ext cx="32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简单写一下原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内容占位符 3" descr=""/>
          <p:cNvPicPr/>
          <p:nvPr/>
        </p:nvPicPr>
        <p:blipFill>
          <a:blip r:embed="rId2"/>
          <a:stretch/>
        </p:blipFill>
        <p:spPr>
          <a:xfrm>
            <a:off x="968400" y="650880"/>
            <a:ext cx="8201160" cy="6203880"/>
          </a:xfrm>
          <a:prstGeom prst="rect">
            <a:avLst/>
          </a:prstGeom>
          <a:ln w="0">
            <a:noFill/>
          </a:ln>
        </p:spPr>
      </p:pic>
      <p:sp>
        <p:nvSpPr>
          <p:cNvPr id="502" name="标题 40961"/>
          <p:cNvSpPr/>
          <p:nvPr/>
        </p:nvSpPr>
        <p:spPr>
          <a:xfrm>
            <a:off x="1044720" y="0"/>
            <a:ext cx="74991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  <a:ea typeface="华文中宋"/>
              </a:rPr>
              <a:t>退回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0962"/>
          <p:cNvSpPr/>
          <p:nvPr/>
        </p:nvSpPr>
        <p:spPr>
          <a:xfrm>
            <a:off x="9360" y="41580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4360" y="-19440"/>
            <a:ext cx="749916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数据汇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文本框 41986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内容占位符 41987" descr="QQ图片20070301073319"/>
          <p:cNvPicPr/>
          <p:nvPr/>
        </p:nvPicPr>
        <p:blipFill>
          <a:blip r:embed="rId2"/>
          <a:stretch/>
        </p:blipFill>
        <p:spPr>
          <a:xfrm>
            <a:off x="974880" y="549360"/>
            <a:ext cx="8207280" cy="631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19160" y="-222120"/>
            <a:ext cx="74995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数据上报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文本框 43010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内容占位符 2" descr="F$JG)]9}1HP8VWLWU{GH8OD"/>
          <p:cNvPicPr/>
          <p:nvPr/>
        </p:nvPicPr>
        <p:blipFill>
          <a:blip r:embed="rId2"/>
          <a:stretch/>
        </p:blipFill>
        <p:spPr>
          <a:xfrm>
            <a:off x="1019160" y="660240"/>
            <a:ext cx="8148600" cy="6237360"/>
          </a:xfrm>
          <a:prstGeom prst="rect">
            <a:avLst/>
          </a:prstGeom>
          <a:ln w="0">
            <a:noFill/>
          </a:ln>
        </p:spPr>
      </p:pic>
      <p:sp>
        <p:nvSpPr>
          <p:cNvPr id="510" name="TextBox 3"/>
          <p:cNvSpPr/>
          <p:nvPr/>
        </p:nvSpPr>
        <p:spPr>
          <a:xfrm>
            <a:off x="2687760" y="3135240"/>
            <a:ext cx="32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如果上级单位已上报数据，本级单位就不能再报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图片 44035" descr="BJX`UZF{BPI@Y09)9SCZC`4"/>
          <p:cNvPicPr/>
          <p:nvPr/>
        </p:nvPicPr>
        <p:blipFill>
          <a:blip r:embed="rId2"/>
          <a:stretch/>
        </p:blipFill>
        <p:spPr>
          <a:xfrm>
            <a:off x="97308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文本框 44036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66600" y="-171360"/>
            <a:ext cx="7499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报表填报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文本框 45058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内容占位符 2" descr="J~~Q[G6HM]TDNC8]0%R%TGS"/>
          <p:cNvPicPr/>
          <p:nvPr/>
        </p:nvPicPr>
        <p:blipFill>
          <a:blip r:embed="rId2"/>
          <a:stretch/>
        </p:blipFill>
        <p:spPr>
          <a:xfrm>
            <a:off x="966960" y="682560"/>
            <a:ext cx="8223120" cy="6153120"/>
          </a:xfrm>
          <a:prstGeom prst="rect">
            <a:avLst/>
          </a:prstGeom>
          <a:ln w="0">
            <a:noFill/>
          </a:ln>
        </p:spPr>
      </p:pic>
      <p:sp>
        <p:nvSpPr>
          <p:cNvPr id="518" name="TextBox 3"/>
          <p:cNvSpPr/>
          <p:nvPr/>
        </p:nvSpPr>
        <p:spPr>
          <a:xfrm>
            <a:off x="4202280" y="1155600"/>
            <a:ext cx="321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如果上级单位没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分配报表，这里就没有可选择的报表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0" name="文本框 46081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46082"/>
          <p:cNvSpPr/>
          <p:nvPr/>
        </p:nvSpPr>
        <p:spPr>
          <a:xfrm>
            <a:off x="971640" y="25560"/>
            <a:ext cx="74991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  <a:ea typeface="华文中宋"/>
              </a:rPr>
              <a:t>报表保存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内容占位符 2" descr="J1SRT9JY(OMXE]`4L(LT3}8"/>
          <p:cNvPicPr/>
          <p:nvPr/>
        </p:nvPicPr>
        <p:blipFill>
          <a:blip r:embed="rId2"/>
          <a:stretch/>
        </p:blipFill>
        <p:spPr>
          <a:xfrm>
            <a:off x="971640" y="568440"/>
            <a:ext cx="8186760" cy="63118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"/>
          <p:cNvSpPr/>
          <p:nvPr/>
        </p:nvSpPr>
        <p:spPr>
          <a:xfrm>
            <a:off x="4030560" y="1967040"/>
            <a:ext cx="16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在线保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3"/>
          <p:cNvSpPr/>
          <p:nvPr/>
        </p:nvSpPr>
        <p:spPr>
          <a:xfrm>
            <a:off x="5864400" y="777960"/>
            <a:ext cx="32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网络不稳定，时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中断时使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2"/>
          <a:srcRect l="321" t="18409" r="-316" b="62"/>
          <a:stretch/>
        </p:blipFill>
        <p:spPr>
          <a:xfrm>
            <a:off x="930240" y="-12600"/>
            <a:ext cx="8240760" cy="6902280"/>
          </a:xfrm>
          <a:prstGeom prst="rect">
            <a:avLst/>
          </a:prstGeom>
          <a:ln w="0">
            <a:noFill/>
          </a:ln>
        </p:spPr>
      </p:pic>
      <p:sp>
        <p:nvSpPr>
          <p:cNvPr id="411" name="文本框 15362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4360" y="-20880"/>
            <a:ext cx="74991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报表审核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逻辑性审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文本框 47106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内容占位符 47107" descr="QQ图片20070301073319"/>
          <p:cNvPicPr/>
          <p:nvPr/>
        </p:nvPicPr>
        <p:blipFill>
          <a:blip r:embed="rId2"/>
          <a:stretch/>
        </p:blipFill>
        <p:spPr>
          <a:xfrm>
            <a:off x="973080" y="549360"/>
            <a:ext cx="8170920" cy="631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4360" y="-20520"/>
            <a:ext cx="74991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报表审核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-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合理性审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9" name="文本框 48130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内容占位符 48131" descr="QQ图片20070301073319"/>
          <p:cNvPicPr/>
          <p:nvPr/>
        </p:nvPicPr>
        <p:blipFill>
          <a:blip r:embed="rId2"/>
          <a:stretch/>
        </p:blipFill>
        <p:spPr>
          <a:xfrm>
            <a:off x="973080" y="622440"/>
            <a:ext cx="8170920" cy="62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71280" y="3240"/>
            <a:ext cx="74991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572314"/>
                </a:solidFill>
                <a:latin typeface="Gill Sans MT"/>
              </a:rPr>
              <a:t>数据上报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文本框 49154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内容占位符 49155" descr=""/>
          <p:cNvPicPr/>
          <p:nvPr/>
        </p:nvPicPr>
        <p:blipFill>
          <a:blip r:embed="rId2"/>
          <a:stretch/>
        </p:blipFill>
        <p:spPr>
          <a:xfrm>
            <a:off x="974880" y="477720"/>
            <a:ext cx="8205480" cy="638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57240" y="-235440"/>
            <a:ext cx="74995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报表打印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文本框 50178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内容占位符 2" descr="`V4DOS[OI2WOXHQ(KM(6GU3"/>
          <p:cNvPicPr/>
          <p:nvPr/>
        </p:nvPicPr>
        <p:blipFill>
          <a:blip r:embed="rId2"/>
          <a:stretch/>
        </p:blipFill>
        <p:spPr>
          <a:xfrm>
            <a:off x="1020600" y="603360"/>
            <a:ext cx="8116920" cy="62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-138240"/>
            <a:ext cx="749952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报表打印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—</a:t>
            </a: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封面打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38" name="内容占位符 3" descr=""/>
          <p:cNvPicPr/>
          <p:nvPr/>
        </p:nvPicPr>
        <p:blipFill>
          <a:blip r:embed="rId2"/>
          <a:stretch/>
        </p:blipFill>
        <p:spPr>
          <a:xfrm>
            <a:off x="979560" y="585720"/>
            <a:ext cx="8172360" cy="6228000"/>
          </a:xfrm>
          <a:prstGeom prst="rect">
            <a:avLst/>
          </a:prstGeom>
          <a:ln w="0">
            <a:noFill/>
          </a:ln>
        </p:spPr>
      </p:pic>
      <p:sp>
        <p:nvSpPr>
          <p:cNvPr id="539" name="文本框 50178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圆角矩形 2"/>
          <p:cNvSpPr/>
          <p:nvPr/>
        </p:nvSpPr>
        <p:spPr>
          <a:xfrm>
            <a:off x="1187280" y="2349360"/>
            <a:ext cx="7705800" cy="20178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ill Sans MT"/>
                <a:ea typeface="华文中宋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51202"/>
          <p:cNvSpPr/>
          <p:nvPr/>
        </p:nvSpPr>
        <p:spPr>
          <a:xfrm>
            <a:off x="52200" y="47772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文本框 16386"/>
          <p:cNvSpPr/>
          <p:nvPr/>
        </p:nvSpPr>
        <p:spPr>
          <a:xfrm>
            <a:off x="5220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内容占位符 2" descr="$BW8[}D~P(X[KN4`8CGA~KV"/>
          <p:cNvPicPr/>
          <p:nvPr/>
        </p:nvPicPr>
        <p:blipFill>
          <a:blip r:embed="rId2"/>
          <a:stretch/>
        </p:blipFill>
        <p:spPr>
          <a:xfrm>
            <a:off x="1027080" y="-4680"/>
            <a:ext cx="811836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图片 1" descr="QXHKY3][4TT9J~T3}3)UK67"/>
          <p:cNvPicPr/>
          <p:nvPr/>
        </p:nvPicPr>
        <p:blipFill>
          <a:blip r:embed="rId2"/>
          <a:stretch/>
        </p:blipFill>
        <p:spPr>
          <a:xfrm>
            <a:off x="981000" y="28440"/>
            <a:ext cx="8148600" cy="54612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3"/>
          <p:cNvSpPr/>
          <p:nvPr/>
        </p:nvSpPr>
        <p:spPr>
          <a:xfrm>
            <a:off x="4576680" y="28440"/>
            <a:ext cx="26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不要存放在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图片 1" descr="DD5M7$0NHM1`WF[U~DQ{]6L"/>
          <p:cNvPicPr/>
          <p:nvPr/>
        </p:nvPicPr>
        <p:blipFill>
          <a:blip r:embed="rId3"/>
          <a:stretch/>
        </p:blipFill>
        <p:spPr>
          <a:xfrm>
            <a:off x="981000" y="5489640"/>
            <a:ext cx="8172360" cy="1346040"/>
          </a:xfrm>
          <a:prstGeom prst="rect">
            <a:avLst/>
          </a:prstGeom>
          <a:ln w="0">
            <a:noFill/>
          </a:ln>
        </p:spPr>
      </p:pic>
      <p:sp>
        <p:nvSpPr>
          <p:cNvPr id="418" name="文本框 16386"/>
          <p:cNvSpPr/>
          <p:nvPr/>
        </p:nvSpPr>
        <p:spPr>
          <a:xfrm>
            <a:off x="5220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16386"/>
          <p:cNvSpPr/>
          <p:nvPr/>
        </p:nvSpPr>
        <p:spPr>
          <a:xfrm>
            <a:off x="52200" y="631800"/>
            <a:ext cx="729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图片 5" descr="360截图20201130180315940"/>
          <p:cNvPicPr/>
          <p:nvPr/>
        </p:nvPicPr>
        <p:blipFill>
          <a:blip r:embed="rId2"/>
          <a:stretch/>
        </p:blipFill>
        <p:spPr>
          <a:xfrm>
            <a:off x="985680" y="-7920"/>
            <a:ext cx="8172720" cy="69055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3755880" y="286236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单击鼠标右键，选择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以管理员身份运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文本框 17410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图片 1" descr="B23`5[WE)[6)0CY(NGW{C{7"/>
          <p:cNvPicPr/>
          <p:nvPr/>
        </p:nvPicPr>
        <p:blipFill>
          <a:blip r:embed="rId2"/>
          <a:stretch/>
        </p:blipFill>
        <p:spPr>
          <a:xfrm>
            <a:off x="993600" y="19080"/>
            <a:ext cx="811548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文本框 18434"/>
          <p:cNvSpPr/>
          <p:nvPr/>
        </p:nvSpPr>
        <p:spPr>
          <a:xfrm>
            <a:off x="52200" y="620640"/>
            <a:ext cx="729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贵州省人力资源社会保障统计数据集中管理与应用系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图片 1" descr="~W50FJOZBS8W6`~[6M2C9(2"/>
          <p:cNvPicPr/>
          <p:nvPr/>
        </p:nvPicPr>
        <p:blipFill>
          <a:blip r:embed="rId2"/>
          <a:stretch/>
        </p:blipFill>
        <p:spPr>
          <a:xfrm>
            <a:off x="1009800" y="-36360"/>
            <a:ext cx="8103960" cy="68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8:33:19Z</dcterms:created>
  <dc:creator>PPT STORE</dc:creator>
  <dc:description>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张俊（规开处公文收发）</cp:lastModifiedBy>
  <dcterms:modified xsi:type="dcterms:W3CDTF">2025-01-21T00:53:54Z</dcterms:modified>
  <cp:revision>202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